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38B-BDA0-4806-B4B7-2F49F635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A8B-4561-4909-85B0-B5E2446A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2F3-3216-49F0-991C-1CD2224D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27B-8197-44D8-9438-17FACEC5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44C6-9C1F-4B16-A887-521AC92E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3EAE-96BA-4B9F-B98E-84B72F7D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4D0D-3DBE-419E-8858-136985B0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137F-693F-47A3-A468-CC01D5E4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E0F5-89A6-4734-94D7-FC00F066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9E5D-3BDB-4491-A0F2-6DB4E30E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9CBD-E9E2-47A8-8C3D-082A45DE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D20-DBF2-4D58-A8F8-7685D30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8BFE-F44B-463B-81E5-5EB4B04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F39C-D713-4EBD-9DC1-DF90096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B323-26E3-40E2-A418-566864C3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B6D4-2524-49AB-9D69-E2F9061C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1BFD-AC6F-406D-8138-2AFC815C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1FA5D-A8BE-4361-8B95-BD247598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2CD4F-263A-4955-9B71-FE365867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28ECC-8AE8-4A33-B1C3-010A828F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7CC48-FD18-4E37-B728-71C4FD39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B962F-0C29-41CB-8597-7692D3C7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654-B656-456E-A229-A1A9F74B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DA0C5-7F4D-4E80-9804-A68EDC31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612EA-8CFB-45A0-9489-96515472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B7830-D3FE-4FCA-8F26-11FBE35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55FBE-E069-4B68-93AE-C946FFA6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4A671-817D-48E8-9868-BB45F9AE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A51C2-3013-4510-8821-22AEFF31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69FB1-FEEE-414D-B55B-D92FD05C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4F381-2DEA-45BA-8EA3-339FD7EA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8BCF-DCD0-469D-B5A3-20E7FCE2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F758-19F8-432A-8328-A8167854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1E9-B77C-4129-8563-64EFBF4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7E69D-4FE9-4EA1-8511-7AB00965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7DA46-5847-4306-AC2B-6921A8F8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854B9-CDAE-4CA8-887F-FB412A79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BA92F-D397-4DBD-A16F-A5EC58D3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65B4-C0EF-4353-AA6D-3D0B8E3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45A7-1DAF-48C3-8795-33213C1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0E62-D4C3-4ECD-A93D-767F2D1E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DA88-D1AD-4A4E-8E13-A19C27EA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140DC-20E5-4DED-BA13-1529FF03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A7812-95A6-48D5-B881-59E63F7E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12B-3D15-4A68-904F-0868CB84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74A0B-3968-42C3-9F32-91901003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C838A-AB0B-4B86-BC7A-4792E20A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4A3DA-6CCA-41BF-B720-1C533560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697AB-1F87-487E-94C6-565E1284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4AAC0-FE3D-45EA-B7BF-457A5124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154D1-421D-465F-9FAE-3D755D1D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E8F47-A0F0-4E57-BCA8-7C34146B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D5B95-8EA7-4581-BBF0-B541BAC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50FDC-9B9F-4AC9-866F-D22D92F3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1217D-7756-4458-B250-63F494A1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394-EFB1-408E-B3FD-F71D724A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3DDE4-EC5B-41DD-9173-FA0E4195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68430-15C3-470C-A3DB-B35B40E2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852BD-CD0A-466F-888F-AB92B8B1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AE45C-AD68-4BE2-AB78-AEA501E8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691E0-74BF-46CF-B7FE-CE866E74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8C96E-EB0E-4ECF-86A7-EA352B6C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7B30A-3295-4068-8600-11421EEE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7AB2D-77FD-4676-9E17-AB3C862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37478-38B9-45F1-9428-E5C9A78E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8828C-A5A1-46B7-B5A7-F221399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AD1-8510-41F7-8B88-DB0B8D76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4EDDF-808F-4750-8023-330996E9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109FB-FB9A-415D-8CDD-FA98576F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C8890-6B39-424B-BD2F-F3525135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FEEC7-D8B9-4756-9913-E7CBC0FE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58EEE-80B1-4F28-B539-9BF7DDCB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951A0C-2E19-4A07-B1A9-F1FB7BEA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74251-4CD7-4F34-945A-72E15D07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770BC-7D76-4110-B0C9-97143229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51D7C-0592-4AE8-A5B2-2265DC5D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D9550-BB39-45FE-B843-153CC46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636-72D9-41D7-B0F0-1DABA3EB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9A956-C73D-4387-849D-0BBC318B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38681-5D61-4A08-818E-AD373C88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43679-3770-42D3-985B-C9083566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1A731-DA95-4A74-8BA6-42ECB71B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6D91E-1025-45CE-ABC5-A2D87E06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7C7-5ACE-4939-AFD2-0CF36607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A197-176A-4EC1-8BA1-2B3B80713C23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églalap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églalap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églalap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églalap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Egyenes összekötő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Egyenes összekötő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Egyenes összekötő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Egyenes összekötő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Egyenes összekötő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Egyenes összekötő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églalap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lipszi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lipszi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lipszi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lipszi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lipszi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117E-3FB6-4ADD-8623-4D5B0E2CB8E6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ACF5-9F7B-4D71-88DA-E0BD5906A900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églalap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églalap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églalap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églalap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Egyenes összekötő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Egyenes összekötő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Egyenes összekötő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Egyenes összekötő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Egyenes összekötő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églalap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lipszi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lipszi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lipszi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lipszi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lipszi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Egyenes összekötő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301B-6793-495E-B61B-8171BA0C5B2D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7B1B-FE5C-405A-BE9B-275BFB1FE09D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gyenes összekötő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Egyenes összekötő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Egyenes összekötő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Egyenes összekötő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églalap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Egyenes összekötő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lipszi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0492-2F5E-4495-A48A-10D04BF7CAD7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gyenes összekötő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lipszi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Egyenes összekötő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églalap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Egyenes összekötő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Egyenes összekötő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Egyenes összekötő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5169-7512-4903-A1E2-6D363BAAF032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3097080" y="216360"/>
            <a:ext cx="470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GROUP NAME: The Lad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MEMBERS: </a:t>
            </a:r>
            <a:r>
              <a:rPr b="1" i="1" lang="hu-HU" sz="2000" spc="-1" strike="noStrike" u="sng">
                <a:solidFill>
                  <a:srgbClr val="000000"/>
                </a:solidFill>
                <a:uFillTx/>
                <a:latin typeface="Trebuchet MS"/>
                <a:ea typeface="Calibri"/>
              </a:rPr>
              <a:t>Bartha Andrea, Csép King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2357280" y="2076120"/>
            <a:ext cx="584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Little-Red-Riding-Hood an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 </a:t>
            </a:r>
            <a:r>
              <a:rPr b="1" i="1" lang="ro-RO" sz="3200" spc="-1" strike="noStrike">
                <a:solidFill>
                  <a:srgbClr val="000000"/>
                </a:solidFill>
                <a:latin typeface="Trebuchet MS"/>
                <a:ea typeface="Calibri"/>
              </a:rPr>
              <a:t>the Tig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zövegdoboz 5"/>
          <p:cNvSpPr/>
          <p:nvPr/>
        </p:nvSpPr>
        <p:spPr>
          <a:xfrm>
            <a:off x="2815200" y="542916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3b7e"/>
                </a:solidFill>
                <a:latin typeface="Trebuchet MS"/>
              </a:rPr>
              <a:t>Group II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Kép 6" descr="piroska-es-farkas-1.jpg"/>
          <p:cNvPicPr/>
          <p:nvPr/>
        </p:nvPicPr>
        <p:blipFill>
          <a:blip r:embed="rId1"/>
          <a:stretch/>
        </p:blipFill>
        <p:spPr>
          <a:xfrm>
            <a:off x="5830920" y="3143160"/>
            <a:ext cx="2927160" cy="3714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14360" y="4428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ONCE UPON A TIME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WHEN THE WORLD WAS YOUNG 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THERE WAS LITTLE-RED-RIDING-HOOD. SHE WAS A SMART AND CHARITABLE LITTLE GIRL. SHE LOVED HER KIND GRANDMOTHER.</a:t>
            </a:r>
            <a:endParaRPr b="0" lang="en-US" sz="20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356" name="Kép 3" descr="redriding1.jpg"/>
          <p:cNvPicPr/>
          <p:nvPr/>
        </p:nvPicPr>
        <p:blipFill>
          <a:blip r:embed="rId1"/>
          <a:stretch/>
        </p:blipFill>
        <p:spPr>
          <a:xfrm>
            <a:off x="2500200" y="0"/>
            <a:ext cx="4786560" cy="4786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14360" y="41428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SHE AND HER GRANDMOTHER TRAVELLED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INTO THE WILD. 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THEY MET THE EVIL TIGRE. THE TIGRE ATE LITTLE-RED-RIDING-HOOD IN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LESS THAN A MOMENT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. THE GRANDMOTHER RAN AWAY, BUT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LIVED IN A CONTINUAL STATE OF FEAR</a:t>
            </a:r>
            <a:endParaRPr b="0" lang="en-US" sz="20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358" name="Kép 3" descr="tigre-8975.jpg"/>
          <p:cNvPicPr/>
          <p:nvPr/>
        </p:nvPicPr>
        <p:blipFill>
          <a:blip r:embed="rId1"/>
          <a:stretch/>
        </p:blipFill>
        <p:spPr>
          <a:xfrm>
            <a:off x="2357280" y="2142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285640" y="4214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One day Grandmother met the strong hunter, who was always ready to help others. The Hunter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listened to Grandmother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’s story and invented a way to </a:t>
            </a:r>
            <a:r>
              <a:rPr b="1" i="1" lang="en-US" sz="2000" spc="-1" strike="noStrike">
                <a:solidFill>
                  <a:srgbClr val="852f74"/>
                </a:solidFill>
                <a:latin typeface="Trebuchet MS"/>
              </a:rPr>
              <a:t>catch the Tigre in a trap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The smart Hunter found the mean Tigre , caught it in a trap and freed </a:t>
            </a: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Little-Red-Riding-Hood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Kép 3" descr="0511-0810-2715-0524_Hillbilly_Hunter_clipart_image.png"/>
          <p:cNvPicPr/>
          <p:nvPr/>
        </p:nvPicPr>
        <p:blipFill>
          <a:blip r:embed="rId1"/>
          <a:stretch/>
        </p:blipFill>
        <p:spPr>
          <a:xfrm>
            <a:off x="3429000" y="428760"/>
            <a:ext cx="2959200" cy="3571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rebuchet MS"/>
              </a:rPr>
              <a:t>The Grandmother and Little-Red-Riding-Hood became friends with the Hunter, they </a:t>
            </a:r>
            <a:r>
              <a:rPr b="1" i="1" lang="ro-RO" sz="2000" spc="-1" strike="noStrike">
                <a:solidFill>
                  <a:srgbClr val="852f74"/>
                </a:solidFill>
                <a:latin typeface="Trebuchet MS"/>
              </a:rPr>
              <a:t>lived happily ever after. And so it was ove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Kép 3" descr="3.jpg"/>
          <p:cNvPicPr/>
          <p:nvPr/>
        </p:nvPicPr>
        <p:blipFill>
          <a:blip r:embed="rId1"/>
          <a:stretch/>
        </p:blipFill>
        <p:spPr>
          <a:xfrm>
            <a:off x="2538360" y="684360"/>
            <a:ext cx="6000840" cy="4037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églalap 3" descr=""/>
          <p:cNvPicPr/>
          <p:nvPr/>
        </p:nvPicPr>
        <p:blipFill>
          <a:blip r:embed="rId1"/>
          <a:stretch/>
        </p:blipFill>
        <p:spPr>
          <a:xfrm>
            <a:off x="2127240" y="469800"/>
            <a:ext cx="5621400" cy="1103400"/>
          </a:xfrm>
          <a:prstGeom prst="rect">
            <a:avLst/>
          </a:prstGeom>
          <a:ln w="0">
            <a:noFill/>
          </a:ln>
        </p:spPr>
      </p:pic>
      <p:pic>
        <p:nvPicPr>
          <p:cNvPr id="364" name="Kép 4" descr="P1010349.JPG"/>
          <p:cNvPicPr/>
          <p:nvPr/>
        </p:nvPicPr>
        <p:blipFill>
          <a:blip r:embed="rId2"/>
          <a:stretch/>
        </p:blipFill>
        <p:spPr>
          <a:xfrm>
            <a:off x="2286000" y="1928880"/>
            <a:ext cx="5500800" cy="4125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04:47Z</dcterms:created>
  <dc:creator>abc</dc:creator>
  <dc:description/>
  <dc:language>en-US</dc:language>
  <cp:lastModifiedBy>abc</cp:lastModifiedBy>
  <dcterms:modified xsi:type="dcterms:W3CDTF">2010-02-23T21:41:58Z</dcterms:modified>
  <cp:revision>4</cp:revision>
  <dc:subject/>
  <dc:title>1. dia</dc:title>
</cp:coreProperties>
</file>